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60B-9BDD-459B-ABC6-0881E39C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66A-6689-4FF0-A818-86864C13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A6A-D8A2-41D7-AFE8-7BC0D909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F58-889C-45CA-9D96-B66F455F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A6D3-C461-4F22-BAD6-E3C2AA16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36FC-46AC-468A-ACFE-73728CF3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2363-2B23-478E-9415-5EC763A5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9A67-076F-4229-9806-94F1B208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7CDA-7B4A-494E-BBB8-AE766105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00A4-FB53-4278-80E4-60C147F7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7978-9AE1-46AB-8A16-FA67901C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7F4-AE91-4408-B606-5B2C453E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A058-47EB-4916-B439-CC20F2FE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31E6-2329-45B3-9DCE-05FDE640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7525-D8E7-483D-B883-6B0F4CC0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1784-797A-4F0A-9CDA-F47A362A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28A2-E9F3-47EC-823C-AD5B1891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E31C-2B7C-4CDE-8CA1-4A32BA7B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827-3064-4127-9763-EF836229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6507-7E8B-46D6-B694-BF0D658B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D0D-DA8D-4154-B109-41983C97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10A-243B-440E-9C62-1B384A22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288-3516-4A21-9DB8-E4F84D5E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71B-9BD0-4664-85B5-FC9E89A1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5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0ACD-4333-4E6E-8AC2-AEE39FF90F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2CD6-D74E-420C-9A85-F75D022604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59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Copperplate Gothic Bold"/>
              </a:rPr>
              <a:t>Acid Rain: The Problem Continues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43000" y="2590920"/>
            <a:ext cx="740412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pperplate Gothic Bold"/>
              </a:rPr>
              <a:t>What Ever Happened to Acid Rain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 the 1980’s, acid rain received a lot of media attention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lthough we don’t hear about acid rain as much these days, it is still a problem that deserves our attention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rtunately, acid rain is a problem that we can all help to solve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pperplate Gothic Bold"/>
              </a:rPr>
              <a:t>What is Acid Rain?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Copperplate Gothic Bold"/>
              </a:rPr>
              <a:t>How Does it 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cid rain” includes both wet and dry acidic deposit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recipitation with a pH lower than 5.6 is considered acidic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cid rain originates from sulfur dioxide and nitrogen oxide particl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nce these particles are emitted into the air they form sulfate and nitrate particles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ese particles can travel long distances on wind current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By combining with water vapor, these particles form acids which fall to the earth as acid rain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pperplate Gothic Bold"/>
              </a:rPr>
              <a:t>Where do Sulfur Dioxide (SO</a:t>
            </a:r>
            <a:r>
              <a:rPr b="0" lang="en-US" sz="3600" spc="-1" strike="noStrike" baseline="-25000">
                <a:solidFill>
                  <a:srgbClr val="ccffff"/>
                </a:solidFill>
                <a:latin typeface="Copperplate Gothic Bold"/>
              </a:rPr>
              <a:t>2</a:t>
            </a:r>
            <a:r>
              <a:rPr b="0" lang="en-US" sz="3600" spc="-1" strike="noStrike">
                <a:solidFill>
                  <a:srgbClr val="ccffff"/>
                </a:solidFill>
                <a:latin typeface="Copperplate Gothic Bold"/>
              </a:rPr>
              <a:t>) and Nitrogen Oxide (NO</a:t>
            </a:r>
            <a:r>
              <a:rPr b="0" lang="en-US" sz="3600" spc="-1" strike="noStrike" baseline="-25000">
                <a:solidFill>
                  <a:srgbClr val="ccffff"/>
                </a:solidFill>
                <a:latin typeface="Copperplate Gothic Bold"/>
              </a:rPr>
              <a:t>x</a:t>
            </a:r>
            <a:r>
              <a:rPr b="0" lang="en-US" sz="3600" spc="-1" strike="noStrike">
                <a:solidFill>
                  <a:srgbClr val="ccffff"/>
                </a:solidFill>
                <a:latin typeface="Copperplate Gothic Bold"/>
              </a:rPr>
              <a:t>) Particles Come From?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ulfur dioxide and nitrogen dioxide particles are emitted from utility plants, especially coal-fed electric plant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utomobiles also emit acid rain causing pollu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679464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pperplate Gothic Bold"/>
              </a:rPr>
              <a:t>How Does Acid Rain Effect Our Live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oor forest health due to acidification of soil: acid rain can kill nutrient-producing microorganism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cidification of lakes and streams can lead to the death of aquatic life, such as trout and bas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cidity can leach mercury out of the soil, causing toxic levels to build up in the fish we ea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cid rain can erode buildings and monuments and destroy paint finish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8080" y="5181480"/>
            <a:ext cx="2070360" cy="1689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248520" y="5181480"/>
            <a:ext cx="2603520" cy="1689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200400" y="5181480"/>
            <a:ext cx="27273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ccffff"/>
                </a:solidFill>
                <a:latin typeface="Copperplate Gothic Bold"/>
              </a:rPr>
              <a:t>What else needs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Copperplate Gothic Bold"/>
              </a:rPr>
              <a:t>to be done about Acid Rain ?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 1990, an amendment to the Clean Air Act called for reductions in sulfur emiss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s proved to be less effective than hoped, as acid rain still persists toda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s is largely due to 2 reasons: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1) reductions in sulfur emissions were not great enough and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2) there were no reductions in nitrogen emissions which are also implicated in forming acid rain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pperplate Gothic Bold"/>
              </a:rPr>
              <a:t>What is Being Done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Copperplate Gothic Bold"/>
              </a:rPr>
              <a:t>About Acid Rain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sently, the New England Governors and eastern Canadian Premieres are working together on a solu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 International Acid Rain Steering Committee was formed and is currently discussing joint action to further reduce sulfur emissions by 50% and reduce nitrogen emissions by 30% by the year 201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pperplate Gothic Bold"/>
              </a:rPr>
              <a:t>Can We Do Anything About Acid Rain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ES! We can all take small actions to help solve the proble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e can help by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using our cars les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serving electric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hoosing electricity providers that emit lower amounts of air pollution emiss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11556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3T16:56:47Z</dcterms:created>
  <dc:creator>Deb Avalone-King</dc:creator>
  <dc:description/>
  <dc:language>en-US</dc:language>
  <cp:lastModifiedBy>dep</cp:lastModifiedBy>
  <dcterms:modified xsi:type="dcterms:W3CDTF">2003-09-04T13:17:41Z</dcterms:modified>
  <cp:revision>21</cp:revision>
  <dc:subject/>
  <dc:title>Acid Rain: The Problem Continues</dc:title>
</cp:coreProperties>
</file>